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9C1-3890-4BF8-9A38-94880C18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7E5-03CA-47E0-9D36-85AD758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02E-10C0-4C66-85FE-78D58EF5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3F2-FE49-4C28-89DC-4B5A3236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F2F-2B40-4F9F-AB87-EBBB788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F44-275D-42A8-99A6-82E6C55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462-910B-464B-B75B-CAD931D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F89-C85B-4D10-888C-A066388B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6B9-98D5-4485-A6D6-E68DAB5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3D3-6924-49C6-9145-FA546891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882-92F8-4928-96CE-7E3276F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7FD-732B-425E-9E05-8E34CC29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1C56-9C02-48D6-A5D1-0B4FA939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hsgrads.wikispaces.com/" TargetMode="External"/><Relationship Id="rId2" Type="http://schemas.openxmlformats.org/officeDocument/2006/relationships/hyperlink" Target="http://rhsgrads.wikispaces.com/" TargetMode="External"/><Relationship Id="rId3" Type="http://schemas.openxmlformats.org/officeDocument/2006/relationships/hyperlink" Target="http://www.ocas.ca/documents/applicant-tutorial-eng.ppt" TargetMode="External"/><Relationship Id="rId4" Type="http://schemas.openxmlformats.org/officeDocument/2006/relationships/hyperlink" Target="http://www.ocas.ca/documents/applicant-tutorial-eng.ppt" TargetMode="External"/><Relationship Id="rId5" Type="http://schemas.openxmlformats.org/officeDocument/2006/relationships/hyperlink" Target="http://www.ocas.ca/documents/applicant-tutorial-eng.ppt" TargetMode="External"/><Relationship Id="rId6" Type="http://schemas.openxmlformats.org/officeDocument/2006/relationships/hyperlink" Target="http://www.ocas.ca/documents/applicant-tutorial-eng.ppt" TargetMode="External"/><Relationship Id="rId7" Type="http://schemas.openxmlformats.org/officeDocument/2006/relationships/hyperlink" Target="http://www.ocas.ca/documents/applicant-tutorial-eng.ppt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Colleg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1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. Be sure to complete all steps required – portfolio, entrance exam 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at are the important dat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Feb 1, 2011 – applications received by this date will be given equal consideration by the colle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ay 2, 2011 – applicants must confirm offers of ad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une 15, 2011 – earliest date colleges may require tuition f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6019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t us know if you are taking a course outside of regular day school (night school, summer school, e-  learning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out the Guidance wik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hsgrads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ca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ca/documents/applicant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utoria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eng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.   Q &amp;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10-11-03T14:52:53Z</dcterms:modified>
  <cp:revision>18</cp:revision>
  <dc:subject/>
  <dc:title>RHS Applying to University  Sept. 2010  </dc:title>
</cp:coreProperties>
</file>